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6A9-3D2C-444A-831C-B10CE881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BEB-C9C7-4906-B2F4-94D8A630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74B-C675-43F4-96B1-A1FC1BC5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946-68F8-4E0F-8B4F-326D24EB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D42-2336-4348-A6AF-FE3D8A9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AF1-923F-42EE-91CF-95E84965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83F-2868-4186-8BC6-719332C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985-48CC-4C45-9AE3-21E72D27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BE2-765D-47AA-BE8B-CB7038F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6BE-4326-41A6-9682-14E75A1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11F-74D0-46AC-9CB6-7335E09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A27-A49B-4850-BC69-C2A427C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80DA-7815-4950-8833-DEEFAB99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989000"/>
            <a:ext cx="67467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ы, я и тригонометр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fc5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2920" y="189000"/>
            <a:ext cx="70009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ики функций y=Sin x и y=Cos x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7" descr="02030201"/>
          <p:cNvPicPr/>
          <p:nvPr/>
        </p:nvPicPr>
        <p:blipFill>
          <a:blip r:embed="rId1"/>
          <a:stretch/>
        </p:blipFill>
        <p:spPr>
          <a:xfrm>
            <a:off x="179280" y="1989000"/>
            <a:ext cx="87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2030301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6597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20847600">
            <a:off x="29880" y="1768320"/>
            <a:ext cx="3816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ики функц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=Tg x и y=Ctg x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гонометрия в лад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е Тригонометрические сведения были известны древним вавилонянам и египтянам, но основы этой науки заложены в Древней Греции встречающиеся уже в III веке до н.э. в работах великих математиков – Евклида, Архимеда, Апполония Пергского. Древнегреческие астрономы успешно решали отдельные вопросы из тригонометрии, связанные с астроном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40000" y="260280"/>
            <a:ext cx="46753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развит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IV-V веках появился уже специальный термин в трудах по астрономии великого индийского учёного Ариабхаты. Отрезо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н назвал ардхаджива (ардха –половина, джива – тетива лука, которую напоминает хорда). Позднее появилось более краткое название джива. (сину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«тангенс», происходящее от латинского tanger (касаться), появилось в 1583 г. Тангенсы возникли в связи с решением задачи об определении длины тени. Тангенс (а также котангенс) введен в X веке Аль - Батани  (850-929)  и  Абу-ль-Вефа  Мухамед-бен  Мухаммед  (940-998),  который составил таблицы синусов  и  тангенсов  через  10’  с  точностью  до  1/6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ередине 9 века среднеазиатский ученый аль-Хорезми написал сочинение «Об индийском счете». После того как арабские трактаты были переведены на латынь, многие идеи индийских математиков стали достоянием европейской, а затем и мировой науки. Такою она была еще в средние века, хотя иногда в ней использовались и  аналитические методы, особенно после появления логарифмов. Постепенно тригонометрия органически вошла в математический анализ, механику, физику  и технические дисцип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Счастливая случайность выпадает лишь на долю подготовленных умов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341360"/>
            <a:ext cx="82803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общить и систематизировать знания учащихся о тригонометрических функ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вить творческую а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ширить кругозор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вить навыки самостоятельной работы и работы в групп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формировать учебные навыки по работе с информационны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6" dur="123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7" dur="123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9" dur="123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9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13000"/>
            <a:ext cx="82803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учить самостоятельно искать, изучать и обобщать учебный материа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учить планировать, проводить анализ построения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ыполнять построения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358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Impact"/>
              </a:rPr>
              <a:t>Мышление начинается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Impact"/>
              </a:rPr>
              <a:t> с удивления!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44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87280" y="404640"/>
            <a:ext cx="684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правляющие вопросы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1840" y="1484280"/>
            <a:ext cx="993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Основополагающий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В чём загадка тригонометрических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Проблем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ем отличаются графики тригонометр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функций от других графиков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В чём сходство и различие тригонометр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то такое фун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то такое тригонометрическая фун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Какими свойствами обла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тригонометрические фун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Как построить графики этих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62626"/>
                </a:solidFill>
                <a:uFillTx/>
                <a:latin typeface="Arial"/>
              </a:rPr>
              <a:t>Задача тригонометрии.</a:t>
            </a:r>
            <a:r>
              <a:rPr b="1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ие сторон и углов треугольник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да уже известны некоторы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Тригонометрические функци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алгебраические функции, устанавливающ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висимость между сторонами и уг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угольника. Тригонометрические функции угла 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яются при помощи числовой окружности, 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же из прямоугольного треугольника (для остр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гл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11280" y="260280"/>
            <a:ext cx="646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гонометрические функ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54936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708200"/>
            <a:ext cx="7848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Непреры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=Sin x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прерывные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Impact"/>
              </a:rPr>
              <a:t>2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Чётность, нечё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n (-x)=-Sin x –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s (-x)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g (-x)=-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tg (-x)=-Ctg x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– 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Impact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Impact"/>
              </a:rPr>
              <a:t>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Период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n (x+2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Sin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s (x+2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g (x+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tg (x+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C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242400">
            <a:off x="4066920" y="0"/>
            <a:ext cx="45432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стейшие свой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6000" y="43480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20:06Z</dcterms:created>
  <dc:creator>Любовь</dc:creator>
  <dc:description/>
  <dc:language>en-US</dc:language>
  <cp:lastModifiedBy>Мамонтовы</cp:lastModifiedBy>
  <dcterms:modified xsi:type="dcterms:W3CDTF">2011-04-23T06:27:21Z</dcterms:modified>
  <cp:revision>31</cp:revision>
  <dc:subject/>
  <dc:title>Слайд 1</dc:title>
</cp:coreProperties>
</file>